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2920" cy="340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BF6A8-89E8-419B-9ED9-14D929EBE1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D40B1-33A4-44CA-9FBF-39F1AB78C9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A8AB6-A229-4882-A7AC-C08BBF0596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FDF4F-DAA0-4880-9C98-CCBAA53921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6DE41-31A3-4535-88E7-0ED6D84F60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F6C53-D317-45B9-93F2-15EBD7B1EF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DC3B5-7B9F-47A9-A7F3-2A7C7563A8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FB21-C58E-4135-AB47-B8DAAB36C1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4EE77-5A10-4F1D-896B-00A579F8AC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6521-8B73-4F02-AD9C-A9CF5BB36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2A29-0D88-4EC3-BA17-FFFFEF07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48D6-E495-48A7-B794-9441429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261D-7653-45D4-9CAB-04089B0BA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F445-22EB-49A4-B6C4-D5057C08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1889-E479-4F50-91F3-6EE2DF7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29E8-2240-4446-BE82-41381B2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0C92-49CC-4530-8B6C-3EC990BB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0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3507-9296-4C73-8138-EFD00340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8857-178B-40C2-8C67-A2330DD0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AC1E-9654-42C9-AC30-401F4522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C4C3-56A0-40D4-AAA3-3DF07D0D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4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61B7D8-2B9B-484D-8FDB-70CCD396F83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S FLORES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flores 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34920" y="1274760"/>
            <a:ext cx="79581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de las gimnospermas se agrupan generalmente e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co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suelen presentar las siguientes 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on flores poco vistosas que carecen de cáliz y  de coro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uelen ser unisexuales, con lo que hay conos masculinos y conos femeni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lores y co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4089600" cy="2670120"/>
          </a:xfrm>
          <a:prstGeom prst="rect">
            <a:avLst/>
          </a:prstGeom>
          <a:ln w="0">
            <a:noFill/>
          </a:ln>
        </p:spPr>
      </p:pic>
      <p:sp>
        <p:nvSpPr>
          <p:cNvPr id="74" name="Line 11"/>
          <p:cNvSpPr/>
          <p:nvPr/>
        </p:nvSpPr>
        <p:spPr>
          <a:xfrm flipV="1">
            <a:off x="1332000" y="551628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184640" cy="2767320"/>
          </a:xfrm>
          <a:prstGeom prst="rect">
            <a:avLst/>
          </a:prstGeom>
          <a:ln w="0">
            <a:noFill/>
          </a:ln>
        </p:spPr>
      </p:pic>
      <p:sp>
        <p:nvSpPr>
          <p:cNvPr id="76" name="Line 13"/>
          <p:cNvSpPr/>
          <p:nvPr/>
        </p:nvSpPr>
        <p:spPr>
          <a:xfrm flipH="1" flipV="1">
            <a:off x="6372360" y="5516640"/>
            <a:ext cx="71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492360" y="5877000"/>
            <a:ext cx="12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mil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8 Conector recto"/>
          <p:cNvSpPr/>
          <p:nvPr/>
        </p:nvSpPr>
        <p:spPr>
          <a:xfrm flipV="1">
            <a:off x="4140360" y="4221000"/>
            <a:ext cx="100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9 Conector recto"/>
          <p:cNvSpPr/>
          <p:nvPr/>
        </p:nvSpPr>
        <p:spPr>
          <a:xfrm flipH="1" flipV="1">
            <a:off x="3059280" y="5445000"/>
            <a:ext cx="1063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940360" y="602136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s masculi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5661000"/>
            <a:ext cx="12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 femeni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flores 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onos masculi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6264360" cy="251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6084720" y="1773360"/>
            <a:ext cx="229428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flores de las gimnospe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Conos femeni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5321520" cy="3444840"/>
          </a:xfrm>
          <a:prstGeom prst="rect">
            <a:avLst/>
          </a:prstGeom>
          <a:ln w="0">
            <a:noFill/>
          </a:ln>
        </p:spPr>
      </p:pic>
      <p:sp>
        <p:nvSpPr>
          <p:cNvPr id="97" name="20 CuadroTexto"/>
          <p:cNvSpPr/>
          <p:nvPr/>
        </p:nvSpPr>
        <p:spPr>
          <a:xfrm>
            <a:off x="1258920" y="53006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22 Conector recto"/>
          <p:cNvSpPr/>
          <p:nvPr/>
        </p:nvSpPr>
        <p:spPr>
          <a:xfrm flipV="1">
            <a:off x="2050920" y="5157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779640" cy="3506760"/>
          </a:xfrm>
          <a:prstGeom prst="rect">
            <a:avLst/>
          </a:prstGeom>
          <a:ln w="0">
            <a:noFill/>
          </a:ln>
        </p:spPr>
      </p:pic>
      <p:sp>
        <p:nvSpPr>
          <p:cNvPr id="100" name="19 Conector recto"/>
          <p:cNvSpPr/>
          <p:nvPr/>
        </p:nvSpPr>
        <p:spPr>
          <a:xfrm flipV="1">
            <a:off x="5076720" y="28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12 Rectángulo"/>
          <p:cNvSpPr/>
          <p:nvPr/>
        </p:nvSpPr>
        <p:spPr>
          <a:xfrm>
            <a:off x="395280" y="1341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s conos femeninos forman, al madurar, las piñas, don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e albergan las semill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1:54Z</dcterms:modified>
  <cp:revision>56</cp:revision>
  <dc:subject/>
  <dc:title>Diapositiva 1</dc:title>
</cp:coreProperties>
</file>